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A8E2-A64A-461A-824B-81B77ED3FB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72AB-2699-42DA-954C-3F143FBC243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A34-A86C-4BBB-9488-9E909E77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225-19CE-4902-8ABD-B370511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F1A-FC8B-4821-97CC-89A2EDB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887-4218-4169-9283-188A78C7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7B52-D9AF-460D-B951-B24FB986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73B-4A94-49E5-B621-7E7CC6B6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DAF-48F9-41D5-BE65-93614C47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F6C-82EB-435D-B756-F61E351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7992-E7E2-4248-AF6C-3DD206B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29B4-AC7A-46E6-BC4E-4CE41036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08DF-81FA-454B-95CD-6D1E671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6F1-2B06-47AB-878B-097B17B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BCC-7647-4A80-ACDE-F30E6FBB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D912-F9F4-4752-BBD0-5FBA437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F8E-F23F-4409-9921-09F5EB9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B56-AA6E-4466-86C2-829B8C8E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6B67-2253-4776-8D4F-470E6DA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B8C2-930E-4CB7-A89E-761DAF36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6DEC-95B6-437B-A1C9-84E558BA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B07C-83A6-4280-855B-8802898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5BB7-49C4-4395-AF4D-056A4B82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8237-F278-451B-A5AE-114ED94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A24-5887-49A6-A192-20F6E7E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9778-C493-4493-83CA-A0E2BD5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ED89-BB45-4C44-BCE2-3DEA628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8E88-A2A3-41A3-8C74-0375193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A997-2CCD-49EE-85A9-9F8A75C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CBD2-2DB1-462D-A922-5BF85DA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EB78-F37B-493B-8DCD-BCB8ED07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C715-7D85-4EBA-A110-76086590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950B-631A-4295-BA0A-30A28670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0DB7-D3C7-4293-8186-C3500BBB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8EEB-9C91-4E05-BBBB-F180F42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1A5-2DBE-4A40-963E-B192EC18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0E74-90F0-41C3-8D90-B61167B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6068-2B06-46E3-9D20-D125B4D6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C8F2-2F77-4945-BAFE-5615286B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AFFA-2ED0-4A98-8146-F3BA250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62D71-5ADC-4358-8255-4A9A443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8A8FE-075E-451B-8F1D-06207BD8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6C2D-C783-4F27-A9B0-1697884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CBF8-6C13-4BAE-A5FB-B1A23CA0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A5E7-EF08-4815-B785-6305B9B6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F4B-CE3F-4484-B2C9-F9290A0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9AA-9C71-4F9B-B549-6B2FF14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D48-F28A-4AD1-9A14-4A8F702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870-06F7-4057-9B57-C108E53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4AE-9038-4391-86CD-4EB5EAC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0B9F-9647-4692-9945-85F389D61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12FE-4A5E-4750-926D-8F4A67C3B83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3BA9-D171-4CE3-BCB1-24E3B9760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A273-AFA6-4347-A530-46C1633CC4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Tchaikovsky, 1812 Overture (Finale).mp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080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89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1:32:19Z</dcterms:modified>
  <cp:revision>8</cp:revision>
  <dc:subject/>
  <dc:title>The History of Russia until 1917</dc:title>
</cp:coreProperties>
</file>